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75F-95A9-4788-9C14-A789D525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87A-3FBC-41AA-90D7-19DC487B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36C-8129-4969-B7A3-38478E7B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ECA-1A71-4B30-87AA-7BAFCDFC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D889-366C-4F7C-9F28-09CEAFCE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0849-F090-476D-8007-1BF8C676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66D4-5CFF-4261-90FE-08CD272E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226D-0885-4E72-B012-091D2D16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16BF-A556-46FE-9C2D-C41137D1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13C2-3FFD-483B-B948-10F2E73C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ED72-8277-4712-BDC4-0ACCD715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1C4-9173-422D-A7DD-26276B19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0E07-FD87-4500-8289-B88E0F17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E389-B580-4E14-A54C-6F623FAC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B60C-65A4-49B3-8252-7554B2F1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9BFC-C55B-488C-BA25-9B5A646D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1FAA-1082-46BD-8E0E-B6ACEAD2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B59-799D-4C76-AE07-0EFAC79A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E3C-F58A-483E-8263-BA098E7A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08D-335B-43C0-9A3D-B701010F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FF4-B485-4DC3-8554-21640D2F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290-30C2-40DD-B5F5-5A30EBF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181-EAC5-4143-89BF-BD9F383D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800-09EC-493C-973D-D40FADE2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E29A-39C7-4049-91F5-E98A6422DA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1F29-9B3C-4F21-B45D-F768E7C9FC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2388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Roberto Clemente </a:t>
            </a: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iTeach iLearn </a:t>
            </a:r>
            <a:br>
              <a:rPr sz="5600"/>
            </a:b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ptop Comput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Negotiab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hones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Infrac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ngaging in scholastic dishonesty, i.e. cheating plagiarizing, copying or sharing another’s work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ent conference  requir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ssible suspens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he Inter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Infra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olating the Department of Education’s Internet Policy – viewing inappropriate internet sit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s of privilege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ent conference require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ther means developed to complete assign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ssible suspension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sign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Infrac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t completing assign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Consequence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Parent  contact/conferenc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Deten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Completion of  missed assignment(s)  and additional work.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mage to School Proper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Infra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gaging in vandalism, graffiti or other intentional  damage to school property, or property belonging to staff, students or othe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Parent conference requir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Suspension  (Principal,  Superintendent, or Regional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0:04:03Z</dcterms:created>
  <dc:creator>Marvan C.  Bunbury</dc:creator>
  <dc:description/>
  <dc:language>en-US</dc:language>
  <cp:lastModifiedBy>Marvan C.  Bunbury</cp:lastModifiedBy>
  <dcterms:modified xsi:type="dcterms:W3CDTF">2006-04-28T00:35:18Z</dcterms:modified>
  <cp:revision>4</cp:revision>
  <dc:subject/>
  <dc:title>iTeach iLearn  Laptop Computer Non-Negotiables </dc:title>
</cp:coreProperties>
</file>